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E52-0AC4-4476-BFBE-BD083849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812-FAAD-4BAC-A106-054A0D2C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268-A735-42E4-8F54-40C0E625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7B0-4199-4DB2-9E24-24038058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32AE-0134-455D-9F9F-5985C5D8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5907-2CE6-4375-BB9F-632A7422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A8F3-910E-4E01-9B66-AB2C13D4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EFE5-055B-4ECF-AD60-AF809F03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EFC9-1965-4A36-A16F-974B3856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1644-5775-4583-87C5-D8FB821C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A0F7-7B60-4B74-95AC-6FB5C756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D89-4F25-4AFF-9DAA-E10017C7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0531-DE9F-4D0A-890A-161864CC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B5EC-ECD7-44CE-A1B5-C4ED7ED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A5E6-9B3E-4DC0-A523-CBCCE349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D39D-FAFA-4012-99CE-44E189EC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DBD3-8424-4941-A7EE-BB192E47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45BB-434B-4BD7-85D0-769D3882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72EF-6431-4F2C-8FE4-A907A87F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2062-CAD3-4687-B1DD-B4B5FE04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6577-67E8-4320-B47C-410706E8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9DC9-7A65-4CA9-85F2-FB3B1D80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E2C-ACFA-436A-B67E-CE3F1D6F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2A54-22AB-4AB0-913A-67EA2487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BC33-7961-450B-8E55-0D9E5D3D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9DEC-64CE-44A8-8037-359B7BDC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E6964-CF50-4414-8227-12E337A1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59FF-BDD7-4E87-AC1B-7A3D8A1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6541-1408-491D-95D2-6D7CF7DF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F3C0-5FA6-405D-B8B1-45C7E1EC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8E277-802F-4022-B5CB-378DA038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8170-0500-4A55-855F-2B3AB464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54B7E-594E-4769-93B5-D728905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C13-D8D1-4B3C-8A6F-BA6FDB2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5F65-80EC-4D81-8254-39710A27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AFA6-83EF-4088-8B08-12983753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F1AE-FAE0-4644-87DC-FFDEDE11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D9FC5-35A2-4E6E-9C4E-3A45012B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D0DD-8568-4373-809F-789927F7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4654-BB2F-4DC8-8BAF-452E1DC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4983-8DF9-43AE-B3BC-BCD61181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A6FD-FB86-45D3-9C92-F5FA5818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EFCD-BADF-4372-A057-EFC31621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ECF-DFFD-4CDF-A7F6-D49A1C82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3F3-8696-423C-A2C0-60213225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794-A16A-41F1-91AB-CB46904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7BC-D55D-414F-89BD-EC2FA64D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951-B2D4-496C-A68C-4AFC40DC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15EF-D14E-4C8B-8421-F0E17F1850AF}" type="slidenum"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A766-EE68-40B7-B5E6-6C8BB4674446}" type="slidenum"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9802-DD96-4879-8CF7-9D52A90421FD}" type="slidenum"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3B4D-B595-4CB9-9C10-976DEAC42F0E}" type="slidenum"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W0nfLDPQ0&amp;translated=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04617b"/>
                </a:solidFill>
                <a:latin typeface="Calibri"/>
              </a:rPr>
              <a:t>LA SANT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" descr="teresadecalcuta.jpg teresa de calcuta image by tierrasanta_album"/>
          <p:cNvPicPr/>
          <p:nvPr/>
        </p:nvPicPr>
        <p:blipFill>
          <a:blip r:embed="rId1"/>
          <a:stretch/>
        </p:blipFill>
        <p:spPr>
          <a:xfrm>
            <a:off x="2928960" y="207180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Objetivo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dentificar caminos cristianos hacia la sant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prender que la Iglesia no fabrica o inventa santos, pues es Dios quien los hace sant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conocer que los santos son un ejemplo y una ayuda continua para seguir a Jesú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://www.virgendelpozo.org/wp-content/uploads/2009/07/07noviembretodoslossantos.jpg"/>
          <p:cNvPicPr/>
          <p:nvPr/>
        </p:nvPicPr>
        <p:blipFill>
          <a:blip r:embed="rId1"/>
          <a:stretch/>
        </p:blipFill>
        <p:spPr>
          <a:xfrm>
            <a:off x="3071880" y="4184640"/>
            <a:ext cx="2079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¿Qué es la sant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santidad absoluta es característica propia de Dios.   El es la fuente de toda santidad y, así, llamamos santas las cosas relacionadas con él o dedicadas a él:  “Santas Escrituras”, “un lugar santo”, “Tierra Santa”, “Santa Cruz”.    También llamamos santos a los hombres y mujeres que El santificó.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www.dentrocine.com/wp-content/uploads/2007/05/santa-biblia.jpg"/>
          <p:cNvPicPr/>
          <p:nvPr/>
        </p:nvPicPr>
        <p:blipFill>
          <a:blip r:embed="rId1"/>
          <a:stretch/>
        </p:blipFill>
        <p:spPr>
          <a:xfrm>
            <a:off x="0" y="3857760"/>
            <a:ext cx="2786040" cy="3000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servicioskoinonia.org/cerezo/dibujosB/53exaltacioncruz.jpg"/>
          <p:cNvPicPr/>
          <p:nvPr/>
        </p:nvPicPr>
        <p:blipFill>
          <a:blip r:embed="rId2"/>
          <a:stretch/>
        </p:blipFill>
        <p:spPr>
          <a:xfrm>
            <a:off x="3071880" y="3429000"/>
            <a:ext cx="1942920" cy="3201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http://www.pasearxpasear.com.ar/tierrasanta/tierrasanta2.gif"/>
          <p:cNvPicPr/>
          <p:nvPr/>
        </p:nvPicPr>
        <p:blipFill>
          <a:blip r:embed="rId3"/>
          <a:stretch/>
        </p:blipFill>
        <p:spPr>
          <a:xfrm>
            <a:off x="5330880" y="3976560"/>
            <a:ext cx="3813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357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ay muchos caminos para llegar a la santidad.  Todos, sea cual sea nuestra vida, podemos ser santos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os llegaron a la santidad por la vía del martirio (dar la vida por Cristo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ay santos en todos los estados de la vida: vírgenes, religiosos, casados, viudos, sacerdotes, jóvenes, niños, reyes, pordioseros, ricos y pobres, sabios y campesinos sin estudio, esclavos, soldados  y ladrones (como el buen ladrón crucificado junto a Jesús) han alcanzado la sant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://inteligenciacatolica.files.wordpress.com/2009/07/comuniondelossantos1.jpg"/>
          <p:cNvPicPr/>
          <p:nvPr/>
        </p:nvPicPr>
        <p:blipFill>
          <a:blip r:embed="rId1"/>
          <a:stretch/>
        </p:blipFill>
        <p:spPr>
          <a:xfrm>
            <a:off x="3071880" y="4137120"/>
            <a:ext cx="2857320" cy="2720880"/>
          </a:xfrm>
          <a:prstGeom prst="rect">
            <a:avLst/>
          </a:prstGeom>
          <a:ln w="0">
            <a:noFill/>
          </a:ln>
        </p:spPr>
      </p:pic>
      <p:sp>
        <p:nvSpPr>
          <p:cNvPr id="206" name="SMARTPenAnnotation0"/>
          <p:cNvSpPr/>
          <p:nvPr/>
        </p:nvSpPr>
        <p:spPr>
          <a:xfrm>
            <a:off x="7456320" y="3098880"/>
            <a:ext cx="27000" cy="4680"/>
          </a:xfrm>
          <a:custGeom>
            <a:avLst/>
            <a:gdLst>
              <a:gd name="textAreaLeft" fmla="*/ 0 w 27000"/>
              <a:gd name="textAreaRight" fmla="*/ 27360 w 2700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6790" h="5146">
                <a:moveTo>
                  <a:pt x="26789" y="0"/>
                </a:moveTo>
                <a:lnTo>
                  <a:pt x="22049" y="4741"/>
                </a:lnTo>
                <a:lnTo>
                  <a:pt x="19660" y="5145"/>
                </a:lnTo>
                <a:lnTo>
                  <a:pt x="17075" y="4422"/>
                </a:lnTo>
                <a:lnTo>
                  <a:pt x="9406" y="259"/>
                </a:lnTo>
                <a:lnTo>
                  <a:pt x="8255" y="173"/>
                </a:lnTo>
                <a:lnTo>
                  <a:pt x="6495" y="11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¿Quién puede ser santo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vive en gracia de Dios.   El que evita firmemente el pe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hace el b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ama con sincer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habla de Dios no sólo con la palabra, sino con cada uno de sus act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anto es el que cultiva día a día una amistad íntima con Dios a través de la or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Y por difícil que nos parezca, hay muchos santos entre nosotr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Link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kbW0nfLDPQ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2:56:58Z</dcterms:created>
  <dc:creator>Computo</dc:creator>
  <dc:description/>
  <dc:language>en-US</dc:language>
  <cp:lastModifiedBy>Computo</cp:lastModifiedBy>
  <dcterms:modified xsi:type="dcterms:W3CDTF">2009-11-10T22:57:37Z</dcterms:modified>
  <cp:revision>1</cp:revision>
  <dc:subject/>
  <dc:title>LA SANTIDAD</dc:title>
</cp:coreProperties>
</file>